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D34A-4F14-48DA-BFC1-32C5001879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D9C0-2428-48FF-8967-1A5878C727E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45E2-2AB1-4C41-A246-B95DE9E9C4E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9D58-5C7C-4163-AA8F-7C839CBF559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79AC-71CF-48E7-9730-022AB0E65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C8F5-3BBD-45A2-AAA5-50D9549C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4CAB-415E-490D-A0D9-5C9428B8B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F551-0ED3-4B19-8E0E-70F0112C5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DA545-A7D3-446B-A45D-0889D5E46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16AEB-3546-4D33-986F-08AA3C52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AD790-E820-4293-BCCD-BB3CD1D3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4D681-9112-4313-B1AA-68AFE6D1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DAB1D-A03B-479A-BF5E-35ADE1ED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663FC-FC09-4126-8EF8-28CB4093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1E9C7-6329-4903-90D0-43ADF755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497F-C32F-4BE1-9C68-BB2E8A85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33AC0-DB9A-4E07-B68E-62196F67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173B7-9E09-4277-8BFA-645C8F9D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6AC80-4B24-4E57-9634-97F6983B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05943-CF61-4672-8117-0A7A61F9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BBCE7-3836-449A-9761-ADA25E55F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130C-3B62-4AED-B075-823D3136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9008-0FDD-4F09-8CA1-C06756B4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F93A-73F0-4532-81ED-E826996B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1AAA-99B1-4F71-85E6-4D3907C7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C26A-E717-4998-8DAD-DF82F4B5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F51B-81AE-4138-A9A2-D12E9BB0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8836-5F2F-4853-B3D9-608B4D00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69C3-AAC8-42CD-BE61-CFDA6242E6B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04F0-9DD1-4F9D-B53D-249D1C3083C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youtu.be/E8MZ1twv0cU" TargetMode="External"/><Relationship Id="rId2" Type="http://schemas.openxmlformats.org/officeDocument/2006/relationships/hyperlink" Target="http://youtu.be/i539ynXmh-c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73800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39640" y="1989000"/>
            <a:ext cx="8136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Dement and Kleitman (1957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lation of Eye Movements During Sleep to Dream Activity: An Objective Method for the Study of Drea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Procedure (3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1600200"/>
            <a:ext cx="4691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bjects were awoken at various times during the n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fairly evenly distributed across the average sleeping time of the subjects) by a loud doorbell no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5148360" y="1844640"/>
            <a:ext cx="3832200" cy="3832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Procedure (4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y immediately reported in to a recording device whether they had been dreaming and the content of the dream before any contact with the experimenter (to avoid bias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rcRect l="0" t="0" r="0" b="7381"/>
          <a:stretch/>
        </p:blipFill>
        <p:spPr>
          <a:xfrm>
            <a:off x="2411280" y="3646440"/>
            <a:ext cx="4248360" cy="2795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Procedure (5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reaming only counted if a fairly detailed and coherent dream was reported - vague impressions or assertions of dreaming without recall of content were not coun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Results - hypothesis 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5122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ignificantly more dreaming occurs in REM than non- REM slee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gnificantly more dreams were reported in REM sleep than non-REM.  When subjects failed to recall dreams this was usually early in the n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5580000" y="1413000"/>
            <a:ext cx="3024360" cy="424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Results – hypothesis 2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The length of REM and the subjective estimate of the length of dreaming will have a positive correl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bjects were significantly correct in matching the duration of their dream to the length of time they had shown in REM slee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Results – hypothesis 3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The pattern of eye movement will be related to the content of the dream reported upon wa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 was a very strong association between the patterns of REMs and the content of dream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Results – hypothesis 3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1600200"/>
            <a:ext cx="5915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3 vertical REM periods were associated with dreams of looking up and down at cliff faces, ladders and basketball n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4140360" y="3429000"/>
            <a:ext cx="2130120" cy="3213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2"/>
          <a:stretch/>
        </p:blipFill>
        <p:spPr>
          <a:xfrm>
            <a:off x="826920" y="3789360"/>
            <a:ext cx="2881440" cy="2475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3"/>
          <a:stretch/>
        </p:blipFill>
        <p:spPr>
          <a:xfrm>
            <a:off x="6659640" y="1341360"/>
            <a:ext cx="2484360" cy="3745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Results – hypothesis 3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1600200"/>
            <a:ext cx="5267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dream of two people throwing tomatoes at each other occurred in the only mainly horizontal REM peri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1 periods of vertical and horizontal REMs were associated with dreams of looking at close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5867280" y="1413000"/>
            <a:ext cx="3075120" cy="3073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"/>
          <p:cNvPicPr/>
          <p:nvPr/>
        </p:nvPicPr>
        <p:blipFill>
          <a:blip r:embed="rId2"/>
          <a:stretch/>
        </p:blipFill>
        <p:spPr>
          <a:xfrm>
            <a:off x="6516720" y="4581360"/>
            <a:ext cx="1927080" cy="2060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Results – hypothesis 3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1600200"/>
            <a:ext cx="5770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0 periods of very little or no REMs were associated with dreams of looking or distant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rcRect l="29817" t="0" r="0" b="4675"/>
          <a:stretch/>
        </p:blipFill>
        <p:spPr>
          <a:xfrm>
            <a:off x="1258920" y="3213000"/>
            <a:ext cx="3673440" cy="3486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2"/>
          <a:stretch/>
        </p:blipFill>
        <p:spPr>
          <a:xfrm>
            <a:off x="6156360" y="2421000"/>
            <a:ext cx="2803320" cy="421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Conclusion – </a:t>
            </a:r>
            <a:br>
              <a:rPr sz="4400"/>
            </a:b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so what do we know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634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3 hypotheses were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er and more vivid dreaming occurs in R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dream in real ti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ye movements match a dream’s 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5940360" y="2349360"/>
            <a:ext cx="2809800" cy="395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Learning Inten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describe and evaluate the key study by Dement and Kleitman in terms o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ethods/proced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5940360" y="2708280"/>
            <a:ext cx="2664000" cy="360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Evaluation - strength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Theore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research provides support for the idea that dreams can be studied in an objective wa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then opens up areas of research for the effect of environmental stimuli on dream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Evaluation - weakness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Methodolog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study used a limited sample, mostly men, therefore showed a lack of generaliz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indmap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836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a sleeping person  - put the bits of information around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1619280" y="3284640"/>
            <a:ext cx="6310440" cy="2181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Drea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2952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orizon – Why do we Dream? (58.24 mi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youtu.be/E8MZ1twv0c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are dream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8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youtu.be/i539ynXmh-c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 55.05 m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Ai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5472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link between REM sleep and dreams was discovered in 1955 (Aserinsky &amp; Kleitm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ment and Kleitman wanted to take this link furth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investigate the relationship between REM sleep, eye movements and dream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5" descr="kleitman1"/>
          <p:cNvPicPr/>
          <p:nvPr/>
        </p:nvPicPr>
        <p:blipFill>
          <a:blip r:embed="rId1"/>
          <a:stretch/>
        </p:blipFill>
        <p:spPr>
          <a:xfrm>
            <a:off x="6012000" y="1413000"/>
            <a:ext cx="3016080" cy="4225680"/>
          </a:xfrm>
          <a:prstGeom prst="rect">
            <a:avLst/>
          </a:prstGeom>
          <a:ln w="25560">
            <a:solidFill>
              <a:srgbClr val="808000"/>
            </a:solidFill>
            <a:miter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Quick question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’s a hypothesi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- A testable stat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 smoking causes can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three hypothes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ificantly more dreaming occurs in REM than non- REM sl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ength of REM and the estimated of the length of dreaming will have a positive relationship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eople will know how long they have been dreaming f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attern of eye movement will be related to the content of the dream reported by participa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Metho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laboratory experimen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ing observations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r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5" descr="sleep study.JPG"/>
          <p:cNvPicPr/>
          <p:nvPr/>
        </p:nvPicPr>
        <p:blipFill>
          <a:blip r:embed="rId1"/>
          <a:stretch/>
        </p:blipFill>
        <p:spPr>
          <a:xfrm>
            <a:off x="5148360" y="2060640"/>
            <a:ext cx="3744720" cy="3531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 males &amp; 2 fem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 studied intensiv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gathered from the other 4 used to confirm the results of the first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this generaliz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be, people are very similar physic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be not, this is a very small 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1" descr=""/>
          <p:cNvPicPr/>
          <p:nvPr/>
        </p:nvPicPr>
        <p:blipFill>
          <a:blip r:embed="rId1"/>
          <a:srcRect l="0" t="14138" r="0" b="13558"/>
          <a:stretch/>
        </p:blipFill>
        <p:spPr>
          <a:xfrm>
            <a:off x="5940360" y="260280"/>
            <a:ext cx="2952720" cy="2135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484280"/>
            <a:ext cx="49068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bjects slept individually in a quiet dark laboratory room after a normal day’s activ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except that alcohol and caffeine were avoided during the days before testing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5580000" y="1413000"/>
            <a:ext cx="3438720" cy="532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Procedure (2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067280" y="1484280"/>
            <a:ext cx="46195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lectrodes were connected near the eyes to register eye movements and on the scalp to measure brain waves during sleep - these were the objective measures of REM sleep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3468600" cy="2295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1T10:13:31Z</dcterms:created>
  <dc:creator>cathy bes</dc:creator>
  <dc:description/>
  <dc:language>en-US</dc:language>
  <cp:lastModifiedBy>Megan Smith</cp:lastModifiedBy>
  <dcterms:modified xsi:type="dcterms:W3CDTF">2016-11-23T09:33:47Z</dcterms:modified>
  <cp:revision>36</cp:revision>
  <dc:subject/>
  <dc:title>Dreams</dc:title>
</cp:coreProperties>
</file>