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2644-0D93-4065-A7B7-F4CBAC18B8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C8E-DADB-4E4E-8A26-68F7AC80DF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2806-18EE-46AD-8DD6-65A5D51430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283E-0BFC-4520-A496-F70D159E61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13A-FF6C-4ECA-92BC-2BF491E8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1EB-B663-403B-A348-15A1325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32F-39DF-4DF1-AA86-1BE7C457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A27-F323-4CB5-819A-AC99A1B3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2F77-BB31-474D-806A-D2C90965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87ABF-F981-4526-8FD2-0A3F509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B90AE-64B4-4025-9FA5-0D82145A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D8BA9-D6F3-42FB-9625-B5B8B11C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9DE88-63A1-4BEC-80DE-AAB6B71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05122-F64C-40CC-A752-A43F4651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D7741-A446-449C-99E5-7036E4B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DDE-E7E0-47FD-BFF5-9B30F7E9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713C6-9C87-4871-A6B0-1FA982EC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13F71-82FB-4A0C-81D1-CC41ACDF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BEAEF-F48B-4E2B-B641-B6972B03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B9FB6-0FB4-4CC2-93E5-134A3C7D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E1A28-4B92-4B98-8B62-24582AE8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6B5-71B5-4378-A290-D4012CE7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E77-DE9B-493A-8612-8CC478C6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F5E-6A0C-430E-9F2C-AD83D7A8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655-3D33-43BA-AE33-D250A662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13E-791B-4265-901D-89A4CE4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AAD-F290-4200-BC81-26045C7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855-3659-4722-ACE4-D5AFF4A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5B6-E17D-4D67-97C4-4EF374779E2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8A7-5183-4E5F-994D-B97CFF83DFE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youtu.be/E8MZ1twv0cU" TargetMode="External"/><Relationship Id="rId2" Type="http://schemas.openxmlformats.org/officeDocument/2006/relationships/hyperlink" Target="http://youtu.be/i539ynXmh-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7380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Dement and Kleitman (1957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on of Eye Movements During Sleep to Dream Activity: An Objective Method for the Study of Dre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3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were awoken at various times during the n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fairly evenly distributed across the average sleeping time of the subjects) by a loud doorbell 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832200" cy="383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4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immediately reported in to a recording device whether they had been dreaming and the content of the dream before any contact with the experimenter (to avoid bia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rcRect l="0" t="0" r="0" b="7381"/>
          <a:stretch/>
        </p:blipFill>
        <p:spPr>
          <a:xfrm>
            <a:off x="2411280" y="3646440"/>
            <a:ext cx="4248360" cy="27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5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eaming only counted if a fairly detailed and coherent dream was reported - vague impressions or assertions of dreaming without recall of content were not cou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- hypothesis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gnificantly more dreaming occurs in REM than non- RE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gnificantly more dreams were reported in REM sleep than non-REM.  When subjects failed to recall dreams this was usually early in the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02436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length of REM and the subjective estimate of the length of dreaming will have a positive correl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were significantly correct in matching the duration of their dream to the length of time they had shown in REM sle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pattern of eye movement will be related to the content of the dream reported upon w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was a very strong association between the patterns of REMs and the content of dream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3 vertical REM periods were associated with dreams of looking up and down at cliff faces, ladders and basketball n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130120" cy="321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2881440" cy="247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484360" cy="37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dream of two people throwing tomatoes at each other occurred in the only mainly horizontal REM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1 periods of vertical and horizontal REMs were associated with dreams of looking at clos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3075120" cy="307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6516720" y="4581360"/>
            <a:ext cx="192708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600200"/>
            <a:ext cx="577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 periods of very little or no REMs were associated with dreams of looking or dista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rcRect l="29817" t="0" r="0" b="4675"/>
          <a:stretch/>
        </p:blipFill>
        <p:spPr>
          <a:xfrm>
            <a:off x="1258920" y="3213000"/>
            <a:ext cx="3673440" cy="348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803320" cy="42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clusion – 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o what do we know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634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3 hypotheses were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r and more vivid dreaming occurs in 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ream in real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movements match a dream’s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809800" cy="39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Learning Inten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describe and evaluate the key study by Dement and Kleitman in term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s/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6640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valuation - strength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Theore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search provides support for the idea that dreams can be studied in an objective w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hen opens up areas of research for the effect of environmental stimuli on drea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valuation - weaknes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Method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tudy used a limited sample, mostly men, therefore showed a lack of generaliz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ndma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sleeping person  - put the bits of information arou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6310440" cy="218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rizon – Why do we Dream? (58.24 m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youtu.be/E8MZ1twv0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dre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youtu.be/i539ynXmh-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 55.05 m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472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link between REM sleep and dreams was discovered in 1955 (Aserinsky &amp; Kleit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ment and Kleitman wanted to take this link furt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nvestigate the relationship between REM sleep, eye movements and drea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kleitman1"/>
          <p:cNvPicPr/>
          <p:nvPr/>
        </p:nvPicPr>
        <p:blipFill>
          <a:blip r:embed="rId1"/>
          <a:stretch/>
        </p:blipFill>
        <p:spPr>
          <a:xfrm>
            <a:off x="6012000" y="1413000"/>
            <a:ext cx="3016080" cy="4225680"/>
          </a:xfrm>
          <a:prstGeom prst="rect">
            <a:avLst/>
          </a:prstGeom>
          <a:ln w="25560">
            <a:solidFill>
              <a:srgbClr val="808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Quick question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a hypothe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- A testable stat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smoking causes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three hypothe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ly more dreaming occurs in REM than non- REM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ngth of REM and the estimated of the length of dreaming will have a positive relationship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ople will know how long they have been dreaming f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tern of eye movement will be related to the content of the dream reported by particip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eth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laboratory experim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observati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sleep study.JPG"/>
          <p:cNvPicPr/>
          <p:nvPr/>
        </p:nvPicPr>
        <p:blipFill>
          <a:blip r:embed="rId1"/>
          <a:stretch/>
        </p:blipFill>
        <p:spPr>
          <a:xfrm>
            <a:off x="5148360" y="2060640"/>
            <a:ext cx="3744720" cy="35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males &amp; 2 fe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studied intens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athered from the other 4 used to confirm the results of the first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general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, people are very similar phys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not, this is a very small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rcRect l="0" t="14138" r="0" b="13558"/>
          <a:stretch/>
        </p:blipFill>
        <p:spPr>
          <a:xfrm>
            <a:off x="5940360" y="260280"/>
            <a:ext cx="2952720" cy="213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84280"/>
            <a:ext cx="4906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slept individually in a quiet dark laboratory room after a normal day’s 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xcept that alcohol and caffeine were avoided during the days before testing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438720" cy="53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2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067280" y="1484280"/>
            <a:ext cx="4619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odes were connected near the eyes to register eye movements and on the scalp to measure brain waves during sleep - these were the objective measures of REM slee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468600" cy="229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0:13:31Z</dcterms:created>
  <dc:creator>cathy bes</dc:creator>
  <dc:description/>
  <dc:language>en-US</dc:language>
  <cp:lastModifiedBy>Megan Smith</cp:lastModifiedBy>
  <dcterms:modified xsi:type="dcterms:W3CDTF">2016-11-23T09:33:47Z</dcterms:modified>
  <cp:revision>36</cp:revision>
  <dc:subject/>
  <dc:title>Dreams</dc:title>
</cp:coreProperties>
</file>