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C63D-3294-40DB-A530-40291229D1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3687-A96F-4E87-8593-F621A73A819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DBB4-0CA5-491B-BC11-7316FB4869C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F39D-7112-4106-A7C3-638DFCC7F32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278E-3AA7-4A97-9003-CB8C6906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EA5-D8EC-4854-A8DA-D17A7785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F37A-8EA9-4657-9874-F10FAB36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234-ADFC-4321-AE31-A18A0CD8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10F9D-5B7D-41E8-80F0-A2226E9A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07A4C-A15B-4130-B90D-3DADA903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716C5-9784-4B10-B2AF-80308979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1998A-894F-4C9C-A9FD-027E5721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39A9C-B418-4384-9868-4B1C73CE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8163B-E405-488C-AA3D-8A54807D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D0D47-62EB-40C0-95DA-AACEB2AD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860F-1096-4A53-85C5-0ED7D0E9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0E9F7-E75E-4D10-85C4-470D9D71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9FEBF-697F-4D4F-A349-934FAC10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82644-14B4-40A5-9B29-526499BF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040A3-15C9-4400-817E-18811F12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E1A8B-0422-456E-B512-4C2F7509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061D-0F9E-417F-A025-FA3D868F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DB20-36C1-4DBE-BB75-C2B74B98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AFE-B893-4F5C-9933-78587A81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BD3F-3A78-453B-9052-3B56EEE1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75AC-B87B-4102-8DD3-8D73176B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3101-8BBB-4C9C-B9C9-080EAD72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699-C8E0-42CD-9D44-1671F77A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BE3C-CCFB-4F8C-87D5-D9E2F9FAAC7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F02F-4BE3-4477-A12C-7A3FD809AAA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youtu.be/E8MZ1twv0cU" TargetMode="External"/><Relationship Id="rId2" Type="http://schemas.openxmlformats.org/officeDocument/2006/relationships/hyperlink" Target="http://youtu.be/i539ynXmh-c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73800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39640" y="1989000"/>
            <a:ext cx="8136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Dement and Kleitman (1957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lation of Eye Movements During Sleep to Dream Activity: An Objective Method for the Study of Drea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rocedure (3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600200"/>
            <a:ext cx="469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bjects were awoken at various times during the n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fairly evenly distributed across the average sleeping time of the subjects) by a loud doorbell no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148360" y="1844640"/>
            <a:ext cx="3832200" cy="3832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rocedure (4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y immediately reported in to a recording device whether they had been dreaming and the content of the dream before any contact with the experimenter (to avoid bias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rcRect l="0" t="0" r="0" b="7381"/>
          <a:stretch/>
        </p:blipFill>
        <p:spPr>
          <a:xfrm>
            <a:off x="2411280" y="3646440"/>
            <a:ext cx="4248360" cy="2795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rocedure (5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reaming only counted if a fairly detailed and coherent dream was reported - vague impressions or assertions of dreaming without recall of content were not cou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Results - hypothesis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512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ignificantly more dreaming occurs in REM than non- REM sle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gnificantly more dreams were reported in REM sleep than non-REM.  When subjects failed to recall dreams this was usually early in the n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5580000" y="1413000"/>
            <a:ext cx="3024360" cy="42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Results – hypothesis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he length of REM and the subjective estimate of the length of dreaming will have a positive correl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bjects were significantly correct in matching the duration of their dream to the length of time they had shown in REM slee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Results – hypothesis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he pattern of eye movement will be related to the content of the dream reported upon w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was a very strong association between the patterns of REMs and the content of dream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Results – hypothesis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600200"/>
            <a:ext cx="591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3 vertical REM periods were associated with dreams of looking up and down at cliff faces, ladders and basketball n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140360" y="3429000"/>
            <a:ext cx="2130120" cy="3213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826920" y="3789360"/>
            <a:ext cx="2881440" cy="247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3"/>
          <a:stretch/>
        </p:blipFill>
        <p:spPr>
          <a:xfrm>
            <a:off x="6659640" y="1341360"/>
            <a:ext cx="2484360" cy="374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Results – hypothesis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600200"/>
            <a:ext cx="5267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dream of two people throwing tomatoes at each other occurred in the only mainly horizontal REM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1 periods of vertical and horizontal REMs were associated with dreams of looking at close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5867280" y="1413000"/>
            <a:ext cx="3075120" cy="307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2"/>
          <a:stretch/>
        </p:blipFill>
        <p:spPr>
          <a:xfrm>
            <a:off x="6516720" y="4581360"/>
            <a:ext cx="1927080" cy="2060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Results – hypothesis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600200"/>
            <a:ext cx="5770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0 periods of very little or no REMs were associated with dreams of looking or distan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rcRect l="29817" t="0" r="0" b="4675"/>
          <a:stretch/>
        </p:blipFill>
        <p:spPr>
          <a:xfrm>
            <a:off x="1258920" y="3213000"/>
            <a:ext cx="3673440" cy="3486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6156360" y="2421000"/>
            <a:ext cx="2803320" cy="421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Conclusion – </a:t>
            </a:r>
            <a:br>
              <a:rPr sz="4400"/>
            </a:b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so what do we know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634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3 hypotheses were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er and more vivid dreaming occurs in R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dream in real ti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 movements match a dream’s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5940360" y="2349360"/>
            <a:ext cx="2809800" cy="395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Learning Inten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describe and evaluate the key study by Dement and Kleitman in terms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thods/proced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5940360" y="2708280"/>
            <a:ext cx="266400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Evaluation - strength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Theore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esearch provides support for the idea that dreams can be studied in an objective w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then opens up areas of research for the effect of environmental stimuli on drea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Evaluation - weaknes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Methodolo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tudy used a limited sample, mostly men, therefore showed a lack of generaliz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indma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a sleeping person  - put the bits of information aroun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1619280" y="3284640"/>
            <a:ext cx="6310440" cy="2181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Drea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952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rizon – Why do we Dream? (58.24 mi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youtu.be/E8MZ1twv0c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are drea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youtu.be/i539ynXmh-c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 55.05 m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Ai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5472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link between REM sleep and dreams was discovered in 1955 (Aserinsky &amp; Kleitm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ment and Kleitman wanted to take this link furth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nvestigate the relationship between REM sleep, eye movements and dream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kleitman1"/>
          <p:cNvPicPr/>
          <p:nvPr/>
        </p:nvPicPr>
        <p:blipFill>
          <a:blip r:embed="rId1"/>
          <a:stretch/>
        </p:blipFill>
        <p:spPr>
          <a:xfrm>
            <a:off x="6012000" y="1413000"/>
            <a:ext cx="3016080" cy="4225680"/>
          </a:xfrm>
          <a:prstGeom prst="rect">
            <a:avLst/>
          </a:prstGeom>
          <a:ln w="25560">
            <a:solidFill>
              <a:srgbClr val="808000"/>
            </a:solidFill>
            <a:miter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Quick question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a hypothes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- A testable stat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smoking causes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three hypothe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tly more dreaming occurs in REM than non- REM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ength of REM and the estimated of the length of dreaming will have a positive relationship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ople will know how long they have been dreaming f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ttern of eye movement will be related to the content of the dream reported by particip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Metho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laboratory experimen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observations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sleep study.JPG"/>
          <p:cNvPicPr/>
          <p:nvPr/>
        </p:nvPicPr>
        <p:blipFill>
          <a:blip r:embed="rId1"/>
          <a:stretch/>
        </p:blipFill>
        <p:spPr>
          <a:xfrm>
            <a:off x="5148360" y="2060640"/>
            <a:ext cx="3744720" cy="353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males &amp; 2 fe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studied intensiv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gathered from the other 4 used to confirm the results of the first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is generaliz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be, people are very similar physi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be not, this is a very small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" descr=""/>
          <p:cNvPicPr/>
          <p:nvPr/>
        </p:nvPicPr>
        <p:blipFill>
          <a:blip r:embed="rId1"/>
          <a:srcRect l="0" t="14138" r="0" b="13558"/>
          <a:stretch/>
        </p:blipFill>
        <p:spPr>
          <a:xfrm>
            <a:off x="5940360" y="260280"/>
            <a:ext cx="2952720" cy="2135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484280"/>
            <a:ext cx="4906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bjects slept individually in a quiet dark laboratory room after a normal day’s activ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except that alcohol and caffeine were avoided during the days before testing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580000" y="1413000"/>
            <a:ext cx="3438720" cy="53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rocedure (2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067280" y="1484280"/>
            <a:ext cx="46195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ectrodes were connected near the eyes to register eye movements and on the scalp to measure brain waves during sleep - these were the objective measures of REM sleep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468600" cy="2295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0:13:31Z</dcterms:created>
  <dc:creator>cathy bes</dc:creator>
  <dc:description/>
  <dc:language>en-US</dc:language>
  <cp:lastModifiedBy>Megan Smith</cp:lastModifiedBy>
  <dcterms:modified xsi:type="dcterms:W3CDTF">2016-11-23T09:33:47Z</dcterms:modified>
  <cp:revision>36</cp:revision>
  <dc:subject/>
  <dc:title>Dreams</dc:title>
</cp:coreProperties>
</file>